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23.png" ContentType="image/png"/>
  <Override PartName="/ppt/media/image20.jpeg" ContentType="image/jpeg"/>
  <Override PartName="/ppt/media/image19.png" ContentType="image/png"/>
  <Override PartName="/ppt/media/image21.png" ContentType="image/pn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22.jpeg" ContentType="image/jpeg"/>
  <Override PartName="/ppt/media/image28.jpeg" ContentType="image/jpeg"/>
  <Override PartName="/ppt/media/image12.jpeg" ContentType="image/jpeg"/>
  <Override PartName="/ppt/media/image13.png" ContentType="image/png"/>
  <Override PartName="/ppt/media/image11.png" ContentType="image/pn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png" ContentType="image/png"/>
  <Override PartName="/ppt/media/image7.jpeg" ContentType="image/jpeg"/>
  <Override PartName="/ppt/media/image38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7.png" ContentType="image/png"/>
  <Override PartName="/ppt/media/image8.png" ContentType="image/png"/>
  <Override PartName="/ppt/media/image14.jpeg" ContentType="image/jpeg"/>
  <Override PartName="/ppt/media/image10.jpeg" ContentType="image/jpeg"/>
  <Override PartName="/ppt/media/image29.jpeg" ContentType="image/jpeg"/>
  <Override PartName="/ppt/media/image36.jpeg" ContentType="image/jpeg"/>
  <Override PartName="/ppt/media/image2.jpeg" ContentType="image/jpeg"/>
  <Override PartName="/ppt/media/image35.jpeg" ContentType="image/jpeg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EFD08-FA2A-48ED-99AE-44C27B5BA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B440D-F994-465F-9C9A-BF896A5C2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DFF66B-B446-4493-9A94-00C7F7808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0DCE79-029D-4376-ADC0-F65D95929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86C553-4B5E-4986-9BFF-4F0B8FDC1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E31A45-8433-46BD-A974-71293DF5F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67E0A9-3CFF-4E43-813C-A16B95010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6D0824-16A3-426F-B8B2-CACA73DE8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51A5F6-5333-4E58-A021-8FB1CF0D0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E337FB-DA8D-4896-8BF7-109E5B591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E8ADD9-58C7-42F5-B9EF-6B31AD1CE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A81C9-049D-42CA-AC11-CE9EEE734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B426E-B539-4F8A-A3B0-8F301CAEB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490B5-E00A-4296-ADA2-C279694AA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56274-2E53-4BEA-A1D4-0D1D7F698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D5678-D17A-4140-A207-91F6A2D70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2DEE1-10FE-4912-B88E-176FC1872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49B43-08FF-4AF7-A6A8-A0F18D884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40C61-769E-49EC-98F4-7676DF055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22FE9-3D46-4E9E-AD8B-F376D3A5C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C40FE-5201-45DC-B622-8CCA67243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FE838-628E-493C-B97C-A2BCEC136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5CEC8-E2E1-4DE5-9FF5-3E2AA1A6C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C0E49-8947-45DD-92D1-103790494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AB6CD-4642-43BD-8673-2158B9CC9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B8472-92A5-4C12-A4CB-6C0620235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712FCA-0C8D-450A-A251-84D506A2A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4F708E-FEE2-4D01-8293-CAD8C4497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E4BF1F-2FEB-4683-B2F8-591DCC732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4A4107-A68F-43C3-8BC9-15DF7CCBE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6E7AE4-BB15-412E-9A6B-582229B08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1AA75-A76F-4D54-A8EF-8F522A4A8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60E5A4-0D97-44A3-A50E-DAB33F35C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121FB9-9F58-4556-B11B-967FF6839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43F2CE-13A0-438A-9268-C2E2EED9C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D018CA-8BD6-40D7-B9C4-B6E5ECCC5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09BD96-D796-441E-BA53-EA148FA40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3B35CD-E1A3-41F4-AD1B-EB2A2ACE8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DFDD02-31DC-461C-AB5A-91C6F878F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275856-E1D6-41FA-8B94-1207D7D59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CB39F4-8648-4858-B63B-05E6E98F7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6ED6ED-8E0A-4763-B6AA-A75BFF64B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9A4CB-5474-4206-926E-65927FF0F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4F2EAF-BD3D-4671-8AC1-F5805CA1A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E4B93F-FA8D-4E38-9D72-B6076446C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CA61F4-92E5-4816-89B8-A051E0900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A3CE23-407C-4996-988C-666E222AF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51BCBB-1632-4058-9942-52E428D82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ED6C08-0F4F-4155-A686-734D346E4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E5AB5F-CA73-47E7-BA08-4A96E4476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2829E3-B058-465E-84AE-CD3D959AB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F9B757-FD04-4CC0-9FB5-C7D38CA2A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D0C01A1-BD66-476A-93D5-A5A2BC7BB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65426-D2E9-4CAA-BD73-16F411B05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E57E8E4-D916-4BF9-853C-7AEC4DBEA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DFBB2CA-871B-4A21-B11C-348B286BF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8BDDEB4-07FF-4D06-9582-54C7708DB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46E38C5-383E-46A6-8095-7223AC148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1FB25AE-9EC5-4CAE-A8EA-53F7EB2D5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D158025-8646-4623-9EF7-D9BE9E4A7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C9C8ADA-5E26-4536-930D-A5AE6A2E3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68530B3-0C53-416E-8ECD-A44B7DD3D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49D99CD-D0B9-47FE-AB66-0CADF4542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A23C73F-54F7-472D-B793-BD94490E2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14A70-BB91-4610-9BD5-43EC05A59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2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DCED9E8-FBBD-4AD1-8DE6-E19037D03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309434-F6F6-4F3F-92CC-E1080EA3F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C63D25-10A2-4217-A36C-CED39EE42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348299-33F5-4E3B-8F56-0AC7C0984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AC3F05-B3B8-49A5-9558-9414377CC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7A277F-D396-4A7F-8A9E-3FE240D3F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FE46F6-038B-4D06-AEE2-ACF29FF4F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A9DE8C-A9AF-4BA2-BC04-112CC134D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D609A4-92A6-426B-BB7B-07B03B71F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13CE23-E15A-47AB-8DA5-FD687E8B4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2E0BF-C2AF-4F20-BEB9-CC023BE43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AAFF3F-65A0-469E-90EC-259BFF157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3B6169-0888-439F-8D20-122305FF7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C522D0-F5DD-4E01-A7A3-AB2957B84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FD589C-F6DE-4173-A1C5-96635119F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191B11-7292-4C93-9E48-C5D567FF2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09560B-F20D-40F3-9DAF-EBE4EA4FC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006358-A545-40C7-95E1-B3AE6C978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9DEB8C-2793-4B58-A826-C3B9D4D18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E83F8F-433B-4443-A4CC-4FB268305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3EC793-5230-4982-8998-F87818C3C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ACC98-3802-4EB4-A606-0B5E168B4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CD72D7-31A7-47FF-8B3D-19BC37632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2824CF-6824-4985-88B6-204EC6C0E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E21276-C209-4032-9C83-14EDFF148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243FC1-031E-4CF1-BD40-CC945887B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33E5B0-1AE3-45B6-8C0B-4E22D8399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834617-3569-4545-AE41-3BD631BE9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4FBA5C-2824-4B26-A9A8-881CFAA39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FA8122-7BAA-49D1-96AF-495D959C9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5E04FD-EBB4-4E16-BBE4-7FE0F30D0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14BB0C-3D97-4892-AA9B-C7CB104B1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D9484-42C8-45AE-9741-00D5A4E3F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6E3BF4-78E4-45DE-A0F7-64324DAF5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71877F-A95B-41AB-8C69-FCAFABA20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63EE26-A2EE-499A-A114-F300A7582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3D6F36-FFE9-4BCE-819B-5E4A19643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FB393A-9279-4D49-B90E-AEA8C5A1C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22EF84-9931-4CD3-88D6-687DBBCE3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796245-7A8F-47E8-BCC4-16CCBB2ED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618B54-DB88-4AC0-9D55-E14BA8F85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084DB8-B31F-4222-A20A-D9933D826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1EA072-360C-47D1-8DF9-3B464D086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3971B-DB69-4A15-B26D-D99D171D36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93266-FDF9-41F2-8076-A1ACCF85BC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21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9" name="PlaceHolder 1"/>
          <p:cNvSpPr>
            <a:spLocks noGrp="1"/>
          </p:cNvSpPr>
          <p:nvPr>
            <p:ph type="dt" idx="7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ftr" idx="8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sldNum" idx="9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06FE5-70C5-48D8-9DC4-AC3DEA7836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26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dt" idx="10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ftr" idx="11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sldNum" idx="12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69DE3-701F-4272-BD61-DD560AB2D0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17397-3792-42E7-A93B-265CDB9A9D5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3" name="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314" name="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7" name="PlaceHolder 5"/>
          <p:cNvSpPr>
            <a:spLocks noGrp="1"/>
          </p:cNvSpPr>
          <p:nvPr>
            <p:ph type="dt" idx="1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10534-5323-4EC4-AE9C-F7EF7B800DE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370" name="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3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63584-C53D-4F21-9835-F2AB28B1639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45C4D-200A-46CA-A748-2FC0F21D268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ECA3A-D391-48F5-B1BA-A6FBB92EE6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9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7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9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7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7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5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9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5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7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7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7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png"/><Relationship Id="rId3" Type="http://schemas.openxmlformats.org/officeDocument/2006/relationships/image" Target="../media/image38.jpeg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9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7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68360" y="1699920"/>
            <a:ext cx="784872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een Light"/>
              </a:rPr>
              <a:t>Energy Sources</a:t>
            </a:r>
            <a:r>
              <a:rPr b="0" lang="en-US" sz="8000" spc="-1" strike="noStrike">
                <a:solidFill>
                  <a:srgbClr val="000000"/>
                </a:solidFill>
                <a:latin typeface="Amienne"/>
              </a:rPr>
              <a:t> </a:t>
            </a:r>
            <a:br>
              <a:rPr sz="8000"/>
            </a:br>
            <a:r>
              <a:rPr b="0" lang="en-US" sz="3600" spc="-1" strike="noStrike">
                <a:solidFill>
                  <a:srgbClr val="000000"/>
                </a:solidFill>
                <a:latin typeface="Teen Light"/>
              </a:rPr>
              <a:t>By: Jessica and Ala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3" name="" descr=""/>
          <p:cNvPicPr/>
          <p:nvPr/>
        </p:nvPicPr>
        <p:blipFill>
          <a:blip r:embed="rId1"/>
          <a:stretch/>
        </p:blipFill>
        <p:spPr>
          <a:xfrm>
            <a:off x="395280" y="3789360"/>
            <a:ext cx="1919160" cy="2879640"/>
          </a:xfrm>
          <a:prstGeom prst="rect">
            <a:avLst/>
          </a:prstGeom>
          <a:ln w="0">
            <a:noFill/>
          </a:ln>
        </p:spPr>
      </p:pic>
      <p:pic>
        <p:nvPicPr>
          <p:cNvPr id="544" name="" descr=""/>
          <p:cNvPicPr/>
          <p:nvPr/>
        </p:nvPicPr>
        <p:blipFill>
          <a:blip r:embed="rId2"/>
          <a:stretch/>
        </p:blipFill>
        <p:spPr>
          <a:xfrm>
            <a:off x="6012000" y="260280"/>
            <a:ext cx="2663640" cy="1998720"/>
          </a:xfrm>
          <a:prstGeom prst="rect">
            <a:avLst/>
          </a:prstGeom>
          <a:ln w="0">
            <a:noFill/>
          </a:ln>
        </p:spPr>
      </p:pic>
      <p:pic>
        <p:nvPicPr>
          <p:cNvPr id="545" name="" descr=""/>
          <p:cNvPicPr/>
          <p:nvPr/>
        </p:nvPicPr>
        <p:blipFill>
          <a:blip r:embed="rId3"/>
          <a:stretch/>
        </p:blipFill>
        <p:spPr>
          <a:xfrm>
            <a:off x="108000" y="333360"/>
            <a:ext cx="2448000" cy="1836720"/>
          </a:xfrm>
          <a:prstGeom prst="rect">
            <a:avLst/>
          </a:prstGeom>
          <a:ln w="0">
            <a:noFill/>
          </a:ln>
        </p:spPr>
      </p:pic>
      <p:pic>
        <p:nvPicPr>
          <p:cNvPr id="546" name="" descr=""/>
          <p:cNvPicPr/>
          <p:nvPr/>
        </p:nvPicPr>
        <p:blipFill>
          <a:blip r:embed="rId4"/>
          <a:stretch/>
        </p:blipFill>
        <p:spPr>
          <a:xfrm>
            <a:off x="2916360" y="3789360"/>
            <a:ext cx="5743440" cy="2752560"/>
          </a:xfrm>
          <a:prstGeom prst="rect">
            <a:avLst/>
          </a:prstGeom>
          <a:ln w="0">
            <a:noFill/>
          </a:ln>
        </p:spPr>
      </p:pic>
      <p:pic>
        <p:nvPicPr>
          <p:cNvPr id="547" name="" descr=""/>
          <p:cNvPicPr/>
          <p:nvPr/>
        </p:nvPicPr>
        <p:blipFill>
          <a:blip r:embed="rId5"/>
          <a:stretch/>
        </p:blipFill>
        <p:spPr>
          <a:xfrm>
            <a:off x="2987640" y="260280"/>
            <a:ext cx="2087640" cy="157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5" name=""/>
          <p:cNvSpPr txBox="1"/>
          <p:nvPr/>
        </p:nvSpPr>
        <p:spPr>
          <a:xfrm>
            <a:off x="2411280" y="4761000"/>
            <a:ext cx="5027760" cy="209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Blue Highway"/>
              </a:rPr>
              <a:t>Hydro </a:t>
            </a:r>
            <a:endParaRPr b="0" lang="en-US" sz="72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Blue Highway"/>
              <a:ea typeface="Blue Highway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5ffff"/>
                </a:solidFill>
                <a:latin typeface="Birch Std"/>
              </a:rPr>
              <a:t>How it Works</a:t>
            </a:r>
            <a:r>
              <a:rPr b="0" lang="en-US" sz="7200" spc="-1" strike="noStrike">
                <a:solidFill>
                  <a:srgbClr val="e5ffff"/>
                </a:solidFill>
                <a:latin typeface="Agency FB"/>
              </a:rPr>
              <a:t>…</a:t>
            </a:r>
            <a:endParaRPr b="0" lang="en-US" sz="7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gency FB"/>
              </a:rPr>
              <a:t>Water flows through a PENSTOCK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gency FB"/>
              </a:rPr>
              <a:t>The water spins a TURBIN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gency FB"/>
              </a:rPr>
              <a:t>Which is connected to a SHAFT and a GENERATOR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gency FB"/>
              </a:rPr>
              <a:t>Which spins and produces electricity</a:t>
            </a:r>
            <a:r>
              <a:rPr b="0" lang="en-US" sz="3600" spc="-1" strike="noStrike">
                <a:solidFill>
                  <a:srgbClr val="ffffff"/>
                </a:solidFill>
                <a:latin typeface="Agency FB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78" name="" descr=""/>
          <p:cNvPicPr/>
          <p:nvPr/>
        </p:nvPicPr>
        <p:blipFill>
          <a:blip r:embed="rId2"/>
          <a:stretch/>
        </p:blipFill>
        <p:spPr>
          <a:xfrm>
            <a:off x="1403280" y="4365720"/>
            <a:ext cx="6985080" cy="24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9" name="" descr=""/>
          <p:cNvPicPr/>
          <p:nvPr/>
        </p:nvPicPr>
        <p:blipFill>
          <a:blip r:embed="rId1"/>
          <a:stretch/>
        </p:blipFill>
        <p:spPr>
          <a:xfrm>
            <a:off x="395280" y="3357720"/>
            <a:ext cx="6192720" cy="3357360"/>
          </a:xfrm>
          <a:prstGeom prst="rect">
            <a:avLst/>
          </a:prstGeom>
          <a:ln w="0">
            <a:noFill/>
          </a:ln>
        </p:spPr>
      </p:pic>
      <p:pic>
        <p:nvPicPr>
          <p:cNvPr id="580" name="" descr=""/>
          <p:cNvPicPr/>
          <p:nvPr/>
        </p:nvPicPr>
        <p:blipFill>
          <a:blip r:embed="rId2"/>
          <a:stretch/>
        </p:blipFill>
        <p:spPr>
          <a:xfrm>
            <a:off x="1476360" y="189000"/>
            <a:ext cx="7246800" cy="30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914400" y="4046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5ffff"/>
                </a:solidFill>
                <a:latin typeface="Biondi"/>
              </a:rPr>
              <a:t>Hydro</a:t>
            </a: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582" name="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3384360" cy="2822400"/>
          </a:xfrm>
          <a:prstGeom prst="rect">
            <a:avLst/>
          </a:prstGeom>
          <a:ln w="0">
            <a:noFill/>
          </a:ln>
        </p:spPr>
      </p:pic>
      <p:pic>
        <p:nvPicPr>
          <p:cNvPr id="583" name="" descr=""/>
          <p:cNvPicPr/>
          <p:nvPr/>
        </p:nvPicPr>
        <p:blipFill>
          <a:blip r:embed="rId3"/>
          <a:stretch/>
        </p:blipFill>
        <p:spPr>
          <a:xfrm>
            <a:off x="4284720" y="1844640"/>
            <a:ext cx="4537080" cy="3505320"/>
          </a:xfrm>
          <a:prstGeom prst="rect">
            <a:avLst/>
          </a:prstGeom>
          <a:ln w="0">
            <a:noFill/>
          </a:ln>
        </p:spPr>
      </p:pic>
      <p:pic>
        <p:nvPicPr>
          <p:cNvPr id="584" name="" descr=""/>
          <p:cNvPicPr/>
          <p:nvPr/>
        </p:nvPicPr>
        <p:blipFill>
          <a:blip r:embed="rId4"/>
          <a:stretch/>
        </p:blipFill>
        <p:spPr>
          <a:xfrm>
            <a:off x="250920" y="3716280"/>
            <a:ext cx="3744720" cy="25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6" name=""/>
          <p:cNvSpPr txBox="1"/>
          <p:nvPr/>
        </p:nvSpPr>
        <p:spPr>
          <a:xfrm>
            <a:off x="1476360" y="115920"/>
            <a:ext cx="6121440" cy="20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een Light"/>
              </a:rPr>
              <a:t>Tidal Energy </a:t>
            </a:r>
            <a:endParaRPr b="0" lang="en-US" sz="72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een Light"/>
              <a:ea typeface="Teen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dobe Caslon Pro Bold"/>
              </a:rPr>
              <a:t>How it Works…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irch Std"/>
              </a:rPr>
              <a:t>When water levels are high in the ocean tides are producing and rushing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irch Std"/>
              </a:rPr>
              <a:t>Barrages are installed under the corner of the riv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irch Std"/>
              </a:rPr>
              <a:t>Water turbines are installed in the barrag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irch Std"/>
              </a:rPr>
              <a:t>When the water or tides rushes through the turbines it produces electricity</a:t>
            </a:r>
            <a:r>
              <a:rPr b="0" lang="en-US" sz="2000" spc="-1" strike="noStrike">
                <a:solidFill>
                  <a:srgbClr val="ffffff"/>
                </a:solidFill>
                <a:latin typeface="DESTINE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9" name="" descr=""/>
          <p:cNvPicPr/>
          <p:nvPr/>
        </p:nvPicPr>
        <p:blipFill>
          <a:blip r:embed="rId1"/>
          <a:stretch/>
        </p:blipFill>
        <p:spPr>
          <a:xfrm>
            <a:off x="2700360" y="4076640"/>
            <a:ext cx="4319640" cy="25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" descr=""/>
          <p:cNvPicPr/>
          <p:nvPr/>
        </p:nvPicPr>
        <p:blipFill>
          <a:blip r:embed="rId1"/>
          <a:stretch/>
        </p:blipFill>
        <p:spPr>
          <a:xfrm>
            <a:off x="611280" y="115920"/>
            <a:ext cx="2923920" cy="2924280"/>
          </a:xfrm>
          <a:prstGeom prst="rect">
            <a:avLst/>
          </a:prstGeom>
          <a:ln w="0">
            <a:noFill/>
          </a:ln>
        </p:spPr>
      </p:pic>
      <p:pic>
        <p:nvPicPr>
          <p:cNvPr id="591" name="" descr=""/>
          <p:cNvPicPr/>
          <p:nvPr/>
        </p:nvPicPr>
        <p:blipFill>
          <a:blip r:embed="rId2"/>
          <a:stretch/>
        </p:blipFill>
        <p:spPr>
          <a:xfrm>
            <a:off x="4859280" y="333360"/>
            <a:ext cx="3552840" cy="3048120"/>
          </a:xfrm>
          <a:prstGeom prst="rect">
            <a:avLst/>
          </a:prstGeom>
          <a:ln w="0">
            <a:noFill/>
          </a:ln>
        </p:spPr>
      </p:pic>
      <p:pic>
        <p:nvPicPr>
          <p:cNvPr id="592" name="" descr=""/>
          <p:cNvPicPr/>
          <p:nvPr/>
        </p:nvPicPr>
        <p:blipFill>
          <a:blip r:embed="rId3"/>
          <a:stretch/>
        </p:blipFill>
        <p:spPr>
          <a:xfrm>
            <a:off x="250920" y="3213000"/>
            <a:ext cx="4033800" cy="3456000"/>
          </a:xfrm>
          <a:prstGeom prst="rect">
            <a:avLst/>
          </a:prstGeom>
          <a:ln w="0">
            <a:noFill/>
          </a:ln>
        </p:spPr>
      </p:pic>
      <p:pic>
        <p:nvPicPr>
          <p:cNvPr id="593" name="" descr=""/>
          <p:cNvPicPr/>
          <p:nvPr/>
        </p:nvPicPr>
        <p:blipFill>
          <a:blip r:embed="rId4"/>
          <a:stretch/>
        </p:blipFill>
        <p:spPr>
          <a:xfrm>
            <a:off x="4788000" y="3573360"/>
            <a:ext cx="3671640" cy="30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ekton Pro"/>
              </a:rPr>
              <a:t>Tidal Energy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5" name="" descr=""/>
          <p:cNvPicPr/>
          <p:nvPr/>
        </p:nvPicPr>
        <p:blipFill>
          <a:blip r:embed="rId1"/>
          <a:stretch/>
        </p:blipFill>
        <p:spPr>
          <a:xfrm>
            <a:off x="826920" y="1628640"/>
            <a:ext cx="3527640" cy="2087640"/>
          </a:xfrm>
          <a:prstGeom prst="rect">
            <a:avLst/>
          </a:prstGeom>
          <a:ln w="0">
            <a:noFill/>
          </a:ln>
        </p:spPr>
      </p:pic>
      <p:pic>
        <p:nvPicPr>
          <p:cNvPr id="596" name="" descr=""/>
          <p:cNvPicPr/>
          <p:nvPr/>
        </p:nvPicPr>
        <p:blipFill>
          <a:blip r:embed="rId2"/>
          <a:stretch/>
        </p:blipFill>
        <p:spPr>
          <a:xfrm>
            <a:off x="5076720" y="476280"/>
            <a:ext cx="3670560" cy="3311640"/>
          </a:xfrm>
          <a:prstGeom prst="rect">
            <a:avLst/>
          </a:prstGeom>
          <a:ln w="0">
            <a:noFill/>
          </a:ln>
        </p:spPr>
      </p:pic>
      <p:pic>
        <p:nvPicPr>
          <p:cNvPr id="597" name="" descr=""/>
          <p:cNvPicPr/>
          <p:nvPr/>
        </p:nvPicPr>
        <p:blipFill>
          <a:blip r:embed="rId3"/>
          <a:stretch/>
        </p:blipFill>
        <p:spPr>
          <a:xfrm>
            <a:off x="1979640" y="3860640"/>
            <a:ext cx="5437080" cy="25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9" name=""/>
          <p:cNvSpPr txBox="1"/>
          <p:nvPr/>
        </p:nvSpPr>
        <p:spPr>
          <a:xfrm>
            <a:off x="611280" y="4869000"/>
            <a:ext cx="838836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Baveuse"/>
              </a:rPr>
              <a:t>Nuclear Power</a:t>
            </a:r>
            <a:endParaRPr b="0" lang="en-US" sz="7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Baveuse"/>
              <a:ea typeface="Baveus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5ffff"/>
                </a:solidFill>
                <a:latin typeface="Baveuse"/>
              </a:rPr>
              <a:t>How it works…</a:t>
            </a: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00ff00"/>
            </a:solidFill>
            <a:miter/>
          </a:ln>
        </p:spPr>
      </p:pic>
      <p:sp>
        <p:nvSpPr>
          <p:cNvPr id="549" name=""/>
          <p:cNvSpPr txBox="1"/>
          <p:nvPr/>
        </p:nvSpPr>
        <p:spPr>
          <a:xfrm>
            <a:off x="2340000" y="620640"/>
            <a:ext cx="403236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9360">
                  <a:solidFill>
                    <a:srgbClr val="00ffff"/>
                  </a:solidFill>
                  <a:miter/>
                </a:ln>
                <a:solidFill>
                  <a:srgbClr val="0000ff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Blue Highway"/>
              </a:rPr>
              <a:t>Wind Power</a:t>
            </a:r>
            <a:endParaRPr b="0" lang="en-US" sz="7200" spc="1" strike="noStrike">
              <a:ln w="9360">
                <a:solidFill>
                  <a:srgbClr val="00ffff"/>
                </a:solidFill>
                <a:miter/>
              </a:ln>
              <a:solidFill>
                <a:srgbClr val="0000ff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Blue Highway"/>
              <a:ea typeface="Blue Highway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2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3457440" cy="2592360"/>
          </a:xfrm>
          <a:prstGeom prst="rect">
            <a:avLst/>
          </a:prstGeom>
          <a:ln w="0">
            <a:noFill/>
          </a:ln>
        </p:spPr>
      </p:pic>
      <p:pic>
        <p:nvPicPr>
          <p:cNvPr id="603" name="" descr=""/>
          <p:cNvPicPr/>
          <p:nvPr/>
        </p:nvPicPr>
        <p:blipFill>
          <a:blip r:embed="rId2"/>
          <a:stretch/>
        </p:blipFill>
        <p:spPr>
          <a:xfrm>
            <a:off x="3851280" y="115920"/>
            <a:ext cx="5183280" cy="3700440"/>
          </a:xfrm>
          <a:prstGeom prst="rect">
            <a:avLst/>
          </a:prstGeom>
          <a:ln w="0">
            <a:noFill/>
          </a:ln>
        </p:spPr>
      </p:pic>
      <p:pic>
        <p:nvPicPr>
          <p:cNvPr id="604" name="" descr=""/>
          <p:cNvPicPr/>
          <p:nvPr/>
        </p:nvPicPr>
        <p:blipFill>
          <a:blip r:embed="rId3"/>
          <a:stretch/>
        </p:blipFill>
        <p:spPr>
          <a:xfrm>
            <a:off x="179280" y="3645000"/>
            <a:ext cx="3598920" cy="2476440"/>
          </a:xfrm>
          <a:prstGeom prst="rect">
            <a:avLst/>
          </a:prstGeom>
          <a:ln w="0">
            <a:noFill/>
          </a:ln>
        </p:spPr>
      </p:pic>
      <p:pic>
        <p:nvPicPr>
          <p:cNvPr id="605" name="" descr=""/>
          <p:cNvPicPr/>
          <p:nvPr/>
        </p:nvPicPr>
        <p:blipFill>
          <a:blip r:embed="rId4"/>
          <a:stretch/>
        </p:blipFill>
        <p:spPr>
          <a:xfrm>
            <a:off x="4716360" y="4005360"/>
            <a:ext cx="3240360" cy="25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5ffff"/>
                </a:solidFill>
                <a:latin typeface="Bell Gothic Std Light"/>
              </a:rPr>
              <a:t>Nuclear Power</a:t>
            </a: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607" name="" descr=""/>
          <p:cNvPicPr/>
          <p:nvPr/>
        </p:nvPicPr>
        <p:blipFill>
          <a:blip r:embed="rId2"/>
          <a:stretch/>
        </p:blipFill>
        <p:spPr>
          <a:xfrm>
            <a:off x="395280" y="3716280"/>
            <a:ext cx="4105440" cy="29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140328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ecff"/>
                </a:solidFill>
                <a:latin typeface="Amienne"/>
              </a:rPr>
              <a:t>HOW IT WORKS…</a:t>
            </a:r>
            <a:br>
              <a:rPr sz="6000"/>
            </a:b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10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pee"/>
              </a:rPr>
              <a:t>A wind turbine operates by…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10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lue Highway Condensed"/>
              </a:rPr>
              <a:t>The wind turns the blad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10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lue Highway Condensed"/>
              </a:rPr>
              <a:t>The blades spin a shaft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10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lue Highway Condensed"/>
              </a:rPr>
              <a:t>The shaft connects to a generator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10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lue Highway Condensed"/>
              </a:rPr>
              <a:t>The generator produces electricit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292720" y="2276640"/>
            <a:ext cx="360828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3327480" cy="2495520"/>
          </a:xfrm>
          <a:prstGeom prst="rect">
            <a:avLst/>
          </a:prstGeom>
          <a:ln w="0">
            <a:noFill/>
          </a:ln>
        </p:spPr>
      </p:pic>
      <p:pic>
        <p:nvPicPr>
          <p:cNvPr id="554" name="" descr=""/>
          <p:cNvPicPr/>
          <p:nvPr/>
        </p:nvPicPr>
        <p:blipFill>
          <a:blip r:embed="rId2"/>
          <a:stretch/>
        </p:blipFill>
        <p:spPr>
          <a:xfrm>
            <a:off x="1763640" y="2852640"/>
            <a:ext cx="5907240" cy="3792600"/>
          </a:xfrm>
          <a:prstGeom prst="rect">
            <a:avLst/>
          </a:prstGeom>
          <a:ln w="0">
            <a:noFill/>
          </a:ln>
        </p:spPr>
      </p:pic>
      <p:pic>
        <p:nvPicPr>
          <p:cNvPr id="555" name="" descr=""/>
          <p:cNvPicPr/>
          <p:nvPr/>
        </p:nvPicPr>
        <p:blipFill>
          <a:blip r:embed="rId3"/>
          <a:stretch/>
        </p:blipFill>
        <p:spPr>
          <a:xfrm>
            <a:off x="4859280" y="115920"/>
            <a:ext cx="3672000" cy="26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Forte"/>
              </a:rPr>
              <a:t>Wind Power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1"/>
          <a:stretch/>
        </p:blipFill>
        <p:spPr>
          <a:xfrm>
            <a:off x="324000" y="1484280"/>
            <a:ext cx="3527280" cy="3024360"/>
          </a:xfrm>
          <a:prstGeom prst="rect">
            <a:avLst/>
          </a:prstGeom>
          <a:ln w="0">
            <a:noFill/>
          </a:ln>
        </p:spPr>
      </p:pic>
      <p:pic>
        <p:nvPicPr>
          <p:cNvPr id="558" name="" descr=""/>
          <p:cNvPicPr/>
          <p:nvPr/>
        </p:nvPicPr>
        <p:blipFill>
          <a:blip r:embed="rId2"/>
          <a:stretch/>
        </p:blipFill>
        <p:spPr>
          <a:xfrm>
            <a:off x="3995640" y="3789360"/>
            <a:ext cx="4210200" cy="2952720"/>
          </a:xfrm>
          <a:prstGeom prst="rect">
            <a:avLst/>
          </a:prstGeom>
          <a:ln w="0">
            <a:noFill/>
          </a:ln>
        </p:spPr>
      </p:pic>
      <p:pic>
        <p:nvPicPr>
          <p:cNvPr id="559" name="" descr=""/>
          <p:cNvPicPr/>
          <p:nvPr/>
        </p:nvPicPr>
        <p:blipFill>
          <a:blip r:embed="rId3"/>
          <a:stretch/>
        </p:blipFill>
        <p:spPr>
          <a:xfrm>
            <a:off x="5580000" y="189000"/>
            <a:ext cx="342576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1" name=""/>
          <p:cNvSpPr txBox="1"/>
          <p:nvPr/>
        </p:nvSpPr>
        <p:spPr>
          <a:xfrm>
            <a:off x="971640" y="189000"/>
            <a:ext cx="705780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SCHOOLBOY"/>
              </a:rPr>
              <a:t>Solar Energy  </a:t>
            </a:r>
            <a:endParaRPr b="0" lang="en-US" sz="7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SCHOOLBOY"/>
              <a:ea typeface="SCHOOLBOY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Planet Benson 2"/>
              </a:rPr>
              <a:t>How solar power works…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YPEMAKER"/>
              </a:rPr>
              <a:t>The sun produces light energy called </a:t>
            </a:r>
            <a:r>
              <a:rPr b="1" lang="en-US" sz="2800" spc="-1" strike="noStrike">
                <a:solidFill>
                  <a:srgbClr val="ffffff"/>
                </a:solidFill>
                <a:latin typeface="TYPEMAKER"/>
              </a:rPr>
              <a:t> PHOT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YPEMAKER"/>
              </a:rPr>
              <a:t>Solar panels capture the </a:t>
            </a:r>
            <a:r>
              <a:rPr b="1" lang="en-US" sz="2800" spc="-1" strike="noStrike">
                <a:solidFill>
                  <a:srgbClr val="ffffff"/>
                </a:solidFill>
                <a:latin typeface="TYPEMAKER"/>
              </a:rPr>
              <a:t>PHOTONS </a:t>
            </a:r>
            <a:r>
              <a:rPr b="0" lang="en-US" sz="2800" spc="-1" strike="noStrike">
                <a:solidFill>
                  <a:srgbClr val="ffffff"/>
                </a:solidFill>
                <a:latin typeface="TYPEMAKER"/>
              </a:rPr>
              <a:t>from solar radiat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YPEMAKER"/>
              </a:rPr>
              <a:t>Converts energy into electricity so that we can use i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4" name="" descr=""/>
          <p:cNvPicPr/>
          <p:nvPr/>
        </p:nvPicPr>
        <p:blipFill>
          <a:blip r:embed="rId1"/>
          <a:stretch/>
        </p:blipFill>
        <p:spPr>
          <a:xfrm>
            <a:off x="2050920" y="3357720"/>
            <a:ext cx="5088240" cy="275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5" name="" descr=""/>
          <p:cNvPicPr/>
          <p:nvPr/>
        </p:nvPicPr>
        <p:blipFill>
          <a:blip r:embed="rId1"/>
          <a:stretch/>
        </p:blipFill>
        <p:spPr>
          <a:xfrm>
            <a:off x="179280" y="2852640"/>
            <a:ext cx="5543640" cy="3870360"/>
          </a:xfrm>
          <a:prstGeom prst="rect">
            <a:avLst/>
          </a:prstGeom>
          <a:ln w="0">
            <a:noFill/>
          </a:ln>
        </p:spPr>
      </p:pic>
      <p:pic>
        <p:nvPicPr>
          <p:cNvPr id="566" name="" descr=""/>
          <p:cNvPicPr/>
          <p:nvPr/>
        </p:nvPicPr>
        <p:blipFill>
          <a:blip r:embed="rId2"/>
          <a:stretch/>
        </p:blipFill>
        <p:spPr>
          <a:xfrm>
            <a:off x="611280" y="189000"/>
            <a:ext cx="2808360" cy="2490840"/>
          </a:xfrm>
          <a:prstGeom prst="rect">
            <a:avLst/>
          </a:prstGeom>
          <a:ln w="0">
            <a:noFill/>
          </a:ln>
        </p:spPr>
      </p:pic>
      <p:pic>
        <p:nvPicPr>
          <p:cNvPr id="567" name="" descr=""/>
          <p:cNvPicPr/>
          <p:nvPr/>
        </p:nvPicPr>
        <p:blipFill>
          <a:blip r:embed="rId3"/>
          <a:stretch/>
        </p:blipFill>
        <p:spPr>
          <a:xfrm>
            <a:off x="4500720" y="189000"/>
            <a:ext cx="3527280" cy="2333520"/>
          </a:xfrm>
          <a:prstGeom prst="rect">
            <a:avLst/>
          </a:prstGeom>
          <a:ln w="0">
            <a:noFill/>
          </a:ln>
        </p:spPr>
      </p:pic>
      <p:pic>
        <p:nvPicPr>
          <p:cNvPr id="568" name="" descr=""/>
          <p:cNvPicPr/>
          <p:nvPr/>
        </p:nvPicPr>
        <p:blipFill>
          <a:blip r:embed="rId4"/>
          <a:stretch/>
        </p:blipFill>
        <p:spPr>
          <a:xfrm>
            <a:off x="6012000" y="3141720"/>
            <a:ext cx="2881080" cy="310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Impact"/>
              </a:rPr>
              <a:t>Solar Energy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mienne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1" name="" descr=""/>
          <p:cNvPicPr/>
          <p:nvPr/>
        </p:nvPicPr>
        <p:blipFill>
          <a:blip r:embed="rId1"/>
          <a:stretch/>
        </p:blipFill>
        <p:spPr>
          <a:xfrm>
            <a:off x="1187280" y="1268280"/>
            <a:ext cx="3699000" cy="2421000"/>
          </a:xfrm>
          <a:prstGeom prst="rect">
            <a:avLst/>
          </a:prstGeom>
          <a:ln w="0">
            <a:noFill/>
          </a:ln>
        </p:spPr>
      </p:pic>
      <p:pic>
        <p:nvPicPr>
          <p:cNvPr id="572" name="" descr=""/>
          <p:cNvPicPr/>
          <p:nvPr/>
        </p:nvPicPr>
        <p:blipFill>
          <a:blip r:embed="rId2"/>
          <a:stretch/>
        </p:blipFill>
        <p:spPr>
          <a:xfrm>
            <a:off x="5219640" y="981000"/>
            <a:ext cx="3600360" cy="2667240"/>
          </a:xfrm>
          <a:prstGeom prst="rect">
            <a:avLst/>
          </a:prstGeom>
          <a:ln w="0">
            <a:noFill/>
          </a:ln>
        </p:spPr>
      </p:pic>
      <p:pic>
        <p:nvPicPr>
          <p:cNvPr id="573" name="" descr=""/>
          <p:cNvPicPr/>
          <p:nvPr/>
        </p:nvPicPr>
        <p:blipFill>
          <a:blip r:embed="rId3"/>
          <a:stretch/>
        </p:blipFill>
        <p:spPr>
          <a:xfrm>
            <a:off x="2556000" y="3789360"/>
            <a:ext cx="4535280" cy="29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2T14:54:15Z</dcterms:created>
  <dc:creator>HWDSB</dc:creator>
  <dc:description/>
  <dc:language>en-US</dc:language>
  <cp:lastModifiedBy>HWDSB</cp:lastModifiedBy>
  <dcterms:modified xsi:type="dcterms:W3CDTF">2011-01-19T15:24:15Z</dcterms:modified>
  <cp:revision>5</cp:revision>
  <dc:subject/>
  <dc:title>Slide 1</dc:title>
</cp:coreProperties>
</file>